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1A07-D6D8-4E36-8F67-463A7A4C4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3DC7-CF24-4C80-9B4D-4CA47D1A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5828-8C01-4770-961B-484FEA989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FA9D-4E72-4F91-80E6-B9771EC68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B173-5108-483D-8364-A4D465B7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39AE-D9E1-43FF-AB82-F53F521E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09FA-8FF9-46E8-B649-EDC962E4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AE7E-7449-4B3C-B25A-EC050D1D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7EA7-C7DC-41C1-82E4-9F4FDB21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9A96-F9E1-48A7-B05A-8B415204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34DC-1BC4-4573-A798-80C3AE39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6BFD-4B85-40CC-8051-95F8699A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CEB2-FCE6-448A-A824-70C7EB7DA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Институт информатики, инноваций и бизнес систем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федра информационных систем и компьютерных 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Предм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«Телекоммуникационные технологии»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Руководитель: Сачко Максим Анатольевич, ст. препода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F94B-ADB8-49D7-AB7A-C3BA6E3B593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3114720"/>
            <a:ext cx="7993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47640" y="799200"/>
            <a:ext cx="80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Точка обмена трафиком (Internet Exchange Poin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Точка обмена трафиком"/>
          <p:cNvPicPr/>
          <p:nvPr/>
        </p:nvPicPr>
        <p:blipFill>
          <a:blip r:embed="rId1"/>
          <a:stretch/>
        </p:blipFill>
        <p:spPr>
          <a:xfrm>
            <a:off x="826920" y="1700280"/>
            <a:ext cx="7417080" cy="3274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39640" y="5445000"/>
            <a:ext cx="817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A-E – пограничные BGP-маршрутизаторы, АС1-АС5 – сети автономных систем, RS – сервер маршрутной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65736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7280" y="6058080"/>
            <a:ext cx="8496360" cy="3636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9280" y="3228840"/>
            <a:ext cx="799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7640" y="946080"/>
            <a:ext cx="7740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Исключение маршрутного сервера из маршрута производится путем установки значения атрибута NEXT_HOP: анонсируя маршруты в сеть АС1, сервер RS указывает NEXT_HOP=A. Таким образом, маршрутизатор (например, Е), получивший и принявший к использованию такой маршрут, будет пересылать данные, предназначенные для АС1, непосредственно маршрутизатору 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0292-20F0-429A-8FC1-3706E8D59E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7280" y="123336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2992320"/>
            <a:ext cx="806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585360"/>
            <a:ext cx="78850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3. Атрибуты пути (Path Attribut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3.1. ORI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ORIGIN (тип 1) – обязательный атрибут, указывающий источник информации о маршрут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0 – IGP (информация о достижимости сети получена от протокола внутренней маршрутизации или введена администратором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9419-10D0-43E2-811B-302488973E5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7280" y="126828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7640" y="3075120"/>
            <a:ext cx="7813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2197440"/>
            <a:ext cx="777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1 – EGP (информация о достижимости сети импортирована из устаревшего протокола EGP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2 – INCOMPLETE (информация получена другим образом, например, RIP-&gt;OSPF-&gt;BGP или BGP-&gt;OSPF-&gt;BGP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ABEB-A96A-416B-BA52-23B49047184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6360" y="3230640"/>
            <a:ext cx="8028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1280" y="1671840"/>
            <a:ext cx="8029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Атрибут ORIGIN вставляется маршрутизатором, который генерирует информацию о маршруте, и при последующем анонсировании маршрута другими маршрутизаторами не изменяется. Атрибут фактически определяет надежность источника информации о маршруте (наиболее надежный ORIGIN=0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1E37-73B7-4446-8160-AD01525DF7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3191040"/>
            <a:ext cx="7993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1110240"/>
            <a:ext cx="788508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3.2. AS_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AS_PATH (тип 2) – обязательный атрибут, содержащий список автономных систем, через которые должна пройти дейтаграмма на пути в указанную в маршруте сеть. AS_PATH представляет собой чередование сегментов двух типов: AS_SEQUENCE – упорядоченный список АС, и AS_SET – множество А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6207-AC17-4F52-970D-43F48DDCBEE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6360" y="3205080"/>
            <a:ext cx="792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7640" y="1570680"/>
            <a:ext cx="7740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3.3. NEXT_H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NEXT_HOP (тип 3) – обязательный атрибут, указывающий адрес следующего BGP-маршрутизатора на пути в заявленную сеть (см. обсуждение в п. 7.2); может совпадать или не совпадать с адресом BGP-узла, анонсирующего маршру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D72F-E596-4E3B-83F4-B1F49E070EC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3141720"/>
            <a:ext cx="7956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1427400"/>
            <a:ext cx="810108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3.4. MULTI_EXIT_DIS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MULTI_EXIT_DISC (тип 4) – необязательный атрибут, представляющий собой приоритет использования объявляющего маршрутизатора для достижения через него анонсируемой сети, то есть фактически это метрика маршрута с точки зрения анонсирующего маршрут BGP-уз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6B30-4B5D-4026-A29D-9F6D76DCB9B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8920" y="1233360"/>
            <a:ext cx="849600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7640" y="3259080"/>
            <a:ext cx="788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2000" y="1868400"/>
            <a:ext cx="774072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3.5. LOCAL_PRE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LOCAL_PREF (тип 5) – необязательный атрибут, устанавливающий для данной АС приоритет данного маршрута среди всех маршрутов к заявленной сети, известных внутри 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4038-7A67-4371-8465-07CA2A6C485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657360"/>
            <a:ext cx="849636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1640" y="3170160"/>
            <a:ext cx="817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19280" y="1485720"/>
            <a:ext cx="781344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3.6. Атрибуты агрегир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ATOMIC_AGGREGATE (тип 6) и AGGREGATOR (тип 7) – необязательные атрибуты, связанные с операциями агрегирования (объединения) нескольких маршрутов в один. Для более детального ознакомления с ними отсылаем читателей к документу RFC-177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Tahoma"/>
              </a:rPr>
              <a:t>Тема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Tahoma"/>
              </a:rPr>
              <a:t>Протокол BG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68D5-E9C1-4773-8A7E-8C7EA10CB5C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1280" y="3139920"/>
            <a:ext cx="792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2072160"/>
            <a:ext cx="774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4. Обработка маршрутной информации (Decision Process) и маршрутные поли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4.1. Decision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9AC6-92B1-42D1-AA0B-672573F1D75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ff"/>
                </a:solidFill>
                <a:latin typeface="Tahoma"/>
              </a:rPr>
              <a:t>Обработка маршрутной информации модулем BG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9280" y="1305000"/>
            <a:ext cx="878544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A25E-3BB3-4135-AF54-357A7FD8C40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Конфликты маршрутных полит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8920" y="2060640"/>
            <a:ext cx="838836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0B47-E504-44A3-AE71-0A77A71A0E1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регулярное выражение для значения AS_PATH (частные случаи: номер конечной АС маршрута, АС соседа, от которого получен маршрут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адрес сети, в которую ведет маршру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адрес соседа, приславшего информацию о маршрут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роисхождение маршрута (атрибут ORIGI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тбор маршрутов из базы Adj-RIB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CDD9-0F7B-4DB5-AE2B-79F25D43FE2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не принимать маршрут – удалить из Adj-RIBsIn (фильтрация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установить административный вес маршрут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установить значение атрибута LOCAL_PREF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установить маршрут в качестве маршрута по умолча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Политика к удовлетворяющему критер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269B-B2CF-48B3-9A01-B75B8EED562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регулярное выражение для значения AS_PATH (частные случаи: номер конечной АС маршрута, АС соседа, от которого получен маршрут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адрес сети, в которую ведет маршру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адрес соседа, которому этот маршрут объявляетс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роисхождение маршрута (атрибут ORIGI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тбор маршрутов в базу Adj-RIBs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EBDA-8FBB-4C66-8934-FDFD943509F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не объявлять маршрут (фильтрация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MULTI_EXIT_DISC: не устанавливать, установить указанное значение, взять в качестве значения метрику маршрута из IG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произвести агрегирование сетей в общий префикс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одифицировать AS_PATH указанным образом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заменить маршрут на defaul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Политика к удовлетворяющему критер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65D1-9756-485C-8CA6-253913D93BB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Пара BGP-соседей устанавливает между собой соединение по протоколу TCP, порт 179. Соседи, принадлежащие разным АС, должны быть доступны друг другу непосредственно; для соседей из одной АС такого ограничения нет, поскольку протокол внутренней маршрутизации обеспечит наличие всех необходимых маршрутов между узлами одной автономной систем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ahoma"/>
              </a:rPr>
              <a:t>5. 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Реализация BG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45B3-CB9B-4E81-AD93-9DF34DF771C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OPEN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 – посылается после установления TCP-соединения. Ответом на OPEN является сообщение KEEPALIVE, если вторая сторона согласна стать BGP-соседом; иначе посылается сообщение NOTIFICATION с кодом, поясняющим причину отказа, и соединение разрывае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KEEPALIVE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 – сообщение предназначено для подтверждения согласия установить соседские отношения, а также для мониторинга активности открытого соединения: для этого BGP-соседи обмениваются KEEPALIVE-сообщениями через определенные интервалы време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Типы BGP-сообщ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ECDD-5169-49DB-9C29-0B1F6B98135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UPDATE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– сообщение предназначено для анонсирования и отзыва маршрутов. После установления соединения с помощью сообщений UPDATE пересылаются все маршруты, которые маршрутизатор хочет объявить соседу (full update), после чего пересылаются только данные о добавленных или удаленных маршрутах по мере их появления (partial updat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Типы BGP-сообщ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47640" y="3263760"/>
            <a:ext cx="8137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413640"/>
            <a:ext cx="7777080" cy="60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одерж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Задача внешней маршрутиз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Внутренний BGP, маршрутные серверы и атрибут NEXT_H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宋体"/>
              </a:rPr>
              <a:t>Атрибуты пути (Path Attributes)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бработка маршрутной информации (Decision Process) и маршрутные полити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宋体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  <a:ea typeface="宋体"/>
              </a:rPr>
              <a:t>Реализация BGP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F702-08A6-47F9-8FA1-6DC4AE5044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NOTIFICATION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– сообщение этого типа используется для информирования соседа о причине закрытия соединения. После отправления этого сообщения BGP-соединение закрывае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Типы BGP-сообщ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EF98-2319-486E-B829-A91581538611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16 октетов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- маркер: в сообщении OPEN всегда, и при раб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㔾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Ґе без аутентификации - в других собщениях, заполнен единицами. Иначе содержит аутентификационную информацию. Сопутствующая функция маркера - повышение надежности выделения границы сообщения в потоке дан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2 октета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- длина сообщения в октетах, включая заголов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1 октет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- тип сооб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Формат BGP-сооб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366ff"/>
                </a:solidFill>
                <a:latin typeface="Tahoma"/>
              </a:rPr>
              <a:t>Вопросы для самопроверки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Назовите тип протокола маршрутизации BG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к называется связующая сеть BGP-системы не принадлежит ни к одной автономной систем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С помощью чего соединяются автономные BGP-систе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Что такое тупиковая автономная система протокола BG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Что такое многопортовая автономная система протокола BG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 чем состоят положительные и отрицательные особенности протокола BG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А. Телекоммуникационные технологии (Сети TCP/IP). – Владивосток: Изд-во ВГУЭС, 20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Леинванд А., Пински Б. Конфигурирование маршрутизаторов Cisco. 3-е издание. – М.: "Вильямс", 200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Хелеби С., Мак-Ферсон Д. Принципы маршрутизации в Internet, 3-е издание. – М.: "Вильямс",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C762-95EE-4983-992A-A654DD847BA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3147840"/>
            <a:ext cx="817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6360" y="1494000"/>
            <a:ext cx="792000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Задача внешней маршрутиз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–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остроение маршрутов между сетями, принадлежащими разным автономным система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00B8-AA28-49F7-86CA-E4725D7156E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3154320"/>
            <a:ext cx="795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836280"/>
            <a:ext cx="77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Внутреннее строение автономных систем скрыто, известны только адреса IP-сетей, составляющих А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Автономные системы"/>
          <p:cNvPicPr/>
          <p:nvPr/>
        </p:nvPicPr>
        <p:blipFill>
          <a:blip r:embed="rId1"/>
          <a:stretch/>
        </p:blipFill>
        <p:spPr>
          <a:xfrm>
            <a:off x="934920" y="2384280"/>
            <a:ext cx="72010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9986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315B-0F3D-4141-93D3-78B5B6ED70F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3098880"/>
            <a:ext cx="828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8920" y="793800"/>
            <a:ext cx="8245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2. Внутренний BGP, маршрутные серверы и атрибут NEXT_H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BGP-маршрутизаторы, находящиеся в одной АС, также должны обмениваться между собой маршрутной информацией. Это необходимо для согласованного отбора внешних маршрутов в соответствии с политикой данной АС и для передачи транзитных маршрутов через автономную систе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847F-51EC-421F-8284-E7E29BF9BD8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7640" y="3152880"/>
            <a:ext cx="7777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19280" y="1879560"/>
            <a:ext cx="7705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Такой обмен производится также по протоколу BGP, который в этом случае часто называется IBGP (Internal BGP), (соответственно, протокол обмена маршрутами между маршрутзаторами разных АС обозначается EBGP –External BGP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07D2-BE39-452C-AF9D-5E855D69E9D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119700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19280" y="1700280"/>
            <a:ext cx="7885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1842120"/>
            <a:ext cx="777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Таким образом, участникам группы нет необходимости устанавливать BGP-соединения попарно; вместо этого каждый участник устанавливает одно соединение с сервером. из различных 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7FB4-5553-41E1-91F3-D0B43C3AACC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8920" y="800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1521000"/>
            <a:ext cx="7597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6360" y="983160"/>
            <a:ext cx="7920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Группой маршрутизаторов могут быть, например, все BGP-маршрутизаторы данной АС, однако маршрутные серверы могут применяться для уменьшения числа соединений также и на внешних BGP-соединениях – в случае, когда в одной физической сети находится много BGP-маршрутизаторов из различных 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54:19Z</dcterms:modified>
  <cp:revision>155</cp:revision>
  <dc:subject/>
  <dc:title>Lecture Template </dc:title>
</cp:coreProperties>
</file>